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850-12BD-4662-8397-1B93D647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C14-82E4-464A-8090-A26F17CF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9F6-88E3-41C9-B4CE-26BEA647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6DF-F90A-4A6D-A706-DAA1E74E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20BC-99FE-4260-A79F-E2FF9A7E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6611-2D84-43B7-93F9-96EFA3E0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C4E7-CD1D-48EE-9CD6-CEA59CFD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A6AE-90E9-481B-802F-AD300A09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AEF0-61F2-4A28-86B9-E9680597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8DAE-D112-4658-8F14-EE88B30E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5F1D-FBCB-417F-9D43-BCC44F09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971-C932-4CD3-A0C4-0F918347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7F73-E9D7-47E7-A8BA-4634DC4F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FCA4-CD45-45C1-84E1-721E39B2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5689-79C5-44E5-883D-32E94CB4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252F-2B55-440E-9CF0-F1610AAF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5BE1-40B5-4B5C-AB27-C601F42D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373-EDCD-462D-8484-17F026EA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614-4AA1-47C0-9EAC-AAB61974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DA8-F425-47E9-9F12-4BD19756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DF5C-684D-4B04-95B0-48AB6E58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2355-B563-42F3-93AB-C4D66FCD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E1C-5A61-4320-A902-BBD96F92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323-DA62-447A-94A2-47265BE7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CCB3-282A-4DEA-B423-7941D6E95085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60F0-AAF7-450C-82EE-C8A8E2497467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ps-expenses.guardian.co.uk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41264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Liberal Pluralis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4292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edia The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643280" y="3730680"/>
            <a:ext cx="40212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Liberal Pluarlis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dominant perspective associated with contemporary capitalis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Liberal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’ – individual choice and freedom are seen as a crucial human r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Pluralist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’ – democratic societies allow a range of political views and opinions and a range of political parties between which the population choose in free elec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Liberal Pluralis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iberal pluralists DEFEND the role of the mass media against the charges brought by Marxist criti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y see the mass media as having a generally positive and beneficial role in contemporary socie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s does NOT mean that they believe the media are beyond criticis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n the contrary, they would expect the media to be the subject of healthy debate and criticis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Liberal Pluralists believe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media are completely free to express themselves in any way they see f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media (especially the press) serve an important democratic function by monitoring the activities of politicians and powerful institu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ven the most powerful can be scrutinised and brought dow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mps-expenses.guardian.co.uk/</a:t>
            </a: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6588000" y="3860640"/>
            <a:ext cx="2178000" cy="2779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1258920" y="4941720"/>
            <a:ext cx="2705040" cy="1695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5"/>
          <a:stretch/>
        </p:blipFill>
        <p:spPr>
          <a:xfrm>
            <a:off x="5580000" y="170028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6"/>
          <a:stretch/>
        </p:blipFill>
        <p:spPr>
          <a:xfrm>
            <a:off x="3132000" y="249228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Liberal Pluralists believe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77104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democratic society needs an educated, well informed electorate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mass media can help ensure that people have a good understanding of the issues when they vo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logic of the market place controls quality and value in the mass media just as it does in any other indust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f we’re not satisfied with a media product, we ‘vote with our wallets’ and spend our money elsewhe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dia companies are constantly on the lookout for gaps in the market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s soon as a new area of demand is identified, a new product will be launched to meet that dema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Liberal Pluralists believe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government has the power to intervene to address any problems which might arise in the free mark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y can prevent very powerful companies from wiping out the oppos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y also invest in public sector companies such as the BBC, therefore priorities can be set and decisions made which are not purely based on making prof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YOUTU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IKKIPED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udience parti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6:07:58Z</dcterms:created>
  <dc:creator>niall</dc:creator>
  <dc:description/>
  <dc:language>en-US</dc:language>
  <cp:lastModifiedBy>Grainne</cp:lastModifiedBy>
  <dcterms:modified xsi:type="dcterms:W3CDTF">2010-11-10T11:12:11Z</dcterms:modified>
  <cp:revision>11</cp:revision>
  <dc:subject/>
  <dc:title>Liberal Pluralism</dc:title>
</cp:coreProperties>
</file>